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7700-3EB1-4026-8C66-38C8289F91B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ланета Земля в опас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рода - единственная книга, каждая страница которой пол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лубокого содержания.                                                        Гё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47C4-8258-4050-B404-3715FF7CAD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екрасен и удивителен окружающий нас мир! Как прекрасны и неповторимы бескрайние леса и безбрежные моря, полноводные реки и озёра, высокие горы и зелёные равнины, широкие степи и безграничные пустын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9595-5C36-49B3-A27A-4B3DD2093E5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т она летит, маленькая так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т она грустит, в думы свои вник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т она плывёт, зыбкой прохладой в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ё ещё живёт! Всё ещё людям вери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т она плывёт сквозь грозовую полноч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ех людей зовёт, прос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йти на помощ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сит  прийти на помощ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87A4-85CA-48AC-820B-E99061B4E93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е я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CA25-67DE-456B-BBB6-1F96F515F74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опас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A9BB-5503-49ED-84F9-0666110A7F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ю окружающей среды способствуют: СЕЛЬСКОХОЗЯЙСТВЕННАЯ ДЕЯТЕЛЬНОСТЬ ЧЕЛОВЕКА, НЕРАЦИОНАЛЬНОЕ ИСПОЛЬЗОВАНИЕ ИСКОПАЕМОГО ТОПЛИВА, ЧРЕЗМЕРНООЕ РАСШИРЕНИЕ ХИМИЧЕСКОГО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 известно, что сегодня наша планета находится в опасности и если мы  будем по –прежнему бездушно эксплуатировать её, то к концу этого столетия потеряем из-за эррозии более трети плодородных земель, исчезнет миллион видов живых организмов, а население будет нуждаться в новых ресур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F058-254B-42E9-AEC1-A5D590D231A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ую весну объявляется месячник по очистке территорий населённых пунктов от мус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 активное участие в субботник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бе понравилась чистота улиц? Не сори, и они останутся такими всегд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0C79-5A37-4D27-86CE-98ECA8B6F5C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рогие ребята! 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емля с её  биосферой – величайшее чудо, она у нас одна.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удем же беречь нашу Землю!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всюду, на каждом шагу, все вместе и каждый в отдельности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ругой планеты у нас не будет!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втрашний   день Земли будет таким, каким мы создадим его сегодн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2B37-3C28-49F8-998C-F741AB9861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A9AB-5215-4B9D-B3E4-D92A0EDE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7909-3460-43D3-9498-0836EDFD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8D4E-458A-4D6D-A8CA-DE355B0B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967F-E2B0-4B15-8856-66EA079D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3C59-2AC5-481F-9445-68A65E71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EF9A-F5A3-4951-BD39-9111EDEF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99F3-9373-4CBD-8F7B-992C7983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F86E-DF33-4612-83BA-45E31051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DE36-1BC7-4C40-B536-3005CEB9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B6CE-8AFB-4DE8-9901-5FA672B7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14A3-1696-4290-8328-FF8E0FCC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B68A-3B11-481E-8053-61A87334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26BB-10D1-4EE9-8CA3-FEF74DC9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758F-6126-49F6-88F6-C4E71F3C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9856-1567-43FA-A22C-5EBE7BB1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392B-D811-4FCC-8306-E66DCA0A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E1E7-9C70-46E2-80FF-81DCA9A4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7775-9572-4BA6-856A-EE8964A2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0E9F-6E0B-4745-B099-D1A1443B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66C5-F72E-4F7D-A8B7-99AE894A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375E-6CB5-4096-A8AA-473C46A7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CA60-D146-4C4E-AF05-69028AC9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E48D-D1A4-4F91-B248-3F7DF70C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1719-026B-42BF-B1EE-A0192E54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C44A-2BDB-4AB9-BD07-7A5052AF88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2958-F2A7-4626-9202-800BFD6F342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cffff"/>
                </a:solidFill>
                <a:latin typeface="Arial"/>
              </a:rPr>
              <a:t>Планета Земля в опасности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рода - единственная книга, каждая страница которой пол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лубокого содержания.                                                        Гё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{19193586-5FF4-4AA6-93B4-E461A553AB4E}"/>
          <p:cNvPicPr/>
          <p:nvPr/>
        </p:nvPicPr>
        <p:blipFill>
          <a:blip r:embed="rId1"/>
          <a:stretch/>
        </p:blipFill>
        <p:spPr>
          <a:xfrm>
            <a:off x="3132000" y="404640"/>
            <a:ext cx="3011760" cy="225936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378000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прекрасен и удивителен окружающий нас мир! Как прекрасны и неповторимы бескрайние леса и безбрежные моря, полноводные реки и озёра, высокие горы и зелёные равнины, широкие степи и безграничные пустын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9" descr="озеро Байкал"/>
          <p:cNvPicPr/>
          <p:nvPr/>
        </p:nvPicPr>
        <p:blipFill>
          <a:blip r:embed="rId1"/>
          <a:stretch/>
        </p:blipFill>
        <p:spPr>
          <a:xfrm>
            <a:off x="6311880" y="260280"/>
            <a:ext cx="2832120" cy="2135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искуссство 025"/>
          <p:cNvPicPr/>
          <p:nvPr/>
        </p:nvPicPr>
        <p:blipFill>
          <a:blip r:embed="rId2"/>
          <a:stretch/>
        </p:blipFill>
        <p:spPr>
          <a:xfrm>
            <a:off x="6297480" y="4722840"/>
            <a:ext cx="2846520" cy="2135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c2_2"/>
          <p:cNvPicPr/>
          <p:nvPr/>
        </p:nvPicPr>
        <p:blipFill>
          <a:blip r:embed="rId3"/>
          <a:stretch/>
        </p:blipFill>
        <p:spPr>
          <a:xfrm>
            <a:off x="6300720" y="2492280"/>
            <a:ext cx="2843280" cy="228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p9_4_3"/>
          <p:cNvPicPr/>
          <p:nvPr/>
        </p:nvPicPr>
        <p:blipFill>
          <a:blip r:embed="rId4"/>
          <a:stretch/>
        </p:blipFill>
        <p:spPr>
          <a:xfrm>
            <a:off x="3564000" y="4724280"/>
            <a:ext cx="2663640" cy="2133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c4_3"/>
          <p:cNvPicPr/>
          <p:nvPr/>
        </p:nvPicPr>
        <p:blipFill>
          <a:blip r:embed="rId5"/>
          <a:stretch/>
        </p:blipFill>
        <p:spPr>
          <a:xfrm>
            <a:off x="3708360" y="333360"/>
            <a:ext cx="2543040" cy="43117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4500720" y="3635280"/>
            <a:ext cx="4643280" cy="3222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т она летит, маленькая так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т она грустит, в думы свои вник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т она плывёт, зыбкой прохладой ве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сё ещё живёт! Всё ещё людям вери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т она плывёт сквозь грозовую полноч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сех людей зовёт, проси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йти на помощ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осит  прийти на помощ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Природные явления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6" name="Picture 5" descr="ЯВЛЕНИЯ"/>
          <p:cNvPicPr/>
          <p:nvPr/>
        </p:nvPicPr>
        <p:blipFill>
          <a:blip r:embed="rId1"/>
          <a:stretch/>
        </p:blipFill>
        <p:spPr>
          <a:xfrm>
            <a:off x="250920" y="1676520"/>
            <a:ext cx="8569080" cy="51814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4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Экологическая опасность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РЕКА"/>
          <p:cNvPicPr/>
          <p:nvPr/>
        </p:nvPicPr>
        <p:blipFill>
          <a:blip r:embed="rId1"/>
          <a:stretch/>
        </p:blipFill>
        <p:spPr>
          <a:xfrm>
            <a:off x="4572000" y="1700280"/>
            <a:ext cx="4275000" cy="4465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rus23"/>
          <p:cNvPicPr/>
          <p:nvPr/>
        </p:nvPicPr>
        <p:blipFill>
          <a:blip r:embed="rId2"/>
          <a:stretch/>
        </p:blipFill>
        <p:spPr>
          <a:xfrm>
            <a:off x="974880" y="3963960"/>
            <a:ext cx="2846160" cy="2135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ЗАГРЯЗНЕНИЕ"/>
          <p:cNvPicPr/>
          <p:nvPr/>
        </p:nvPicPr>
        <p:blipFill>
          <a:blip r:embed="rId3"/>
          <a:stretch/>
        </p:blipFill>
        <p:spPr>
          <a:xfrm>
            <a:off x="974880" y="1676520"/>
            <a:ext cx="2846160" cy="21351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259920"/>
            <a:ext cx="419400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грязнению окружающей среды способствуют: СЕЛЬСКОХОЗЯЙСТВЕННАЯ ДЕЯТЕЛЬНОСТЬ ЧЕЛОВЕКА, НЕРАЦИОНАЛЬНОЕ ИСПОЛЬЗОВАНИЕ ИСКОПАЕМОГО ТОПЛИВА, ЧРЕЗМЕРНООЕ РАСШИРЕНИЕ ХИМИЧЕСКОГО ПРОИЗВО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33360"/>
            <a:ext cx="419400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м известно, что сегодня наша планета находится в опасности и если мы  будем по –прежнему бездушно эксплуатировать её, то к концу этого столетия потеряем из-за эррозии более трети плодородных земель, исчезнет миллион видов живых организмов, а население будет нуждаться в новых ресурс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ceaa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699920"/>
            <a:ext cx="854064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ждую весну объявляется месячник по очистке территорий населённых пунктов от мусо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и активное участие в субботник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бе понравилась чистота улиц? Не сори, и они останутся такими всегд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826920" y="333360"/>
            <a:ext cx="763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начни с малог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Дорогие ребята! 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Земля с её  биосферой – величайшее чудо, она у нас одна..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Будем же беречь нашу Землю!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Повсюду, на каждом шагу, все вместе и каждый в отдельности.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Другой планеты у нас не будет! </a:t>
            </a:r>
            <a:br>
              <a:rPr sz="1800"/>
            </a:b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Завтрашний   день Земли будет таким, каким мы создадим его сегодня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3" name="Picture 13" descr="искуссство 023"/>
          <p:cNvPicPr/>
          <p:nvPr/>
        </p:nvPicPr>
        <p:blipFill>
          <a:blip r:embed="rId1"/>
          <a:stretch/>
        </p:blipFill>
        <p:spPr>
          <a:xfrm>
            <a:off x="1042920" y="4437000"/>
            <a:ext cx="2846520" cy="2135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искуссство 025"/>
          <p:cNvPicPr/>
          <p:nvPr/>
        </p:nvPicPr>
        <p:blipFill>
          <a:blip r:embed="rId2"/>
          <a:stretch/>
        </p:blipFill>
        <p:spPr>
          <a:xfrm>
            <a:off x="4500720" y="4437000"/>
            <a:ext cx="4319280" cy="2135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P4110192"/>
          <p:cNvPicPr/>
          <p:nvPr/>
        </p:nvPicPr>
        <p:blipFill>
          <a:blip r:embed="rId3">
            <a:lum contrast="6000"/>
          </a:blip>
          <a:srcRect l="0" t="0" r="0" b="34889"/>
          <a:stretch/>
        </p:blipFill>
        <p:spPr>
          <a:xfrm>
            <a:off x="468360" y="2205000"/>
            <a:ext cx="4319640" cy="21351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126" name="Picture 17" descr="p9_2_3"/>
          <p:cNvPicPr/>
          <p:nvPr/>
        </p:nvPicPr>
        <p:blipFill>
          <a:blip r:embed="rId4"/>
          <a:stretch/>
        </p:blipFill>
        <p:spPr>
          <a:xfrm>
            <a:off x="5148360" y="2349360"/>
            <a:ext cx="3276360" cy="1871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спасибо за внимание"/>
          <p:cNvPicPr/>
          <p:nvPr/>
        </p:nvPicPr>
        <p:blipFill>
          <a:blip r:embed="rId1"/>
          <a:stretch/>
        </p:blipFill>
        <p:spPr>
          <a:xfrm>
            <a:off x="1619280" y="1197000"/>
            <a:ext cx="5975280" cy="44798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07:03:47Z</dcterms:created>
  <dc:creator>user</dc:creator>
  <dc:description/>
  <dc:language>en-US</dc:language>
  <cp:lastModifiedBy>LEGION</cp:lastModifiedBy>
  <dcterms:modified xsi:type="dcterms:W3CDTF">2015-05-06T08:29:36Z</dcterms:modified>
  <cp:revision>32</cp:revision>
  <dc:subject/>
  <dc:title>Земля – малое дитя Космоса</dc:title>
</cp:coreProperties>
</file>